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2F5-90EE-4093-8272-2FC29278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BA7-6F97-49E8-825A-E2772D25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E8D-2B3C-439B-8B4B-F563A3E1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B0F-4226-4D96-9DBA-C236E8F1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6258-1438-481D-91BE-DD093416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8826-115C-4C2C-9A0F-B2685246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DE62-9C7B-4853-A0C7-9746D803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34CC-FD86-4EED-AE7C-4C913132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BF59-D889-47F9-B10C-BC85EFFE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7693-3235-4B6D-8219-5AD57F06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1D90-4484-44BC-B811-BEEB354A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4D4-EEF5-41DD-A2F9-41B7BD69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2FEE-7A2F-423E-9A18-B05F6DE0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3217-D574-451F-B0B6-AF5241E8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7E99-B7A8-4FAA-AD11-253788BB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C91D-BFF9-48B3-81BB-D02F7A9C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A285-EDCA-488E-BC0C-7F713494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570E-18B5-4856-91B4-76C64BBD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3BBE-FADD-493D-950C-F7F88E43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DC607-B20F-467D-89E0-1A03848B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FEFD-2AD9-4779-92B5-1241E292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63EE-861C-49B8-AA86-1E000EAA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1BF-038D-478F-A480-AD0E0E3C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FFEC-AEC0-4C72-B845-66386C8B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E48A-EA02-4167-BD0C-E567B963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AD530-58F9-44CE-B51E-6D296E2B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B45D-A0E9-4B1F-8CE1-D2578D95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9F9F-B1E0-427C-BFBD-0547F254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CBB7-7910-4797-910A-88BA0066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8964-34E8-4227-BCA5-A8CC2093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8C1FC-35C7-4E10-BB63-B22221A2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3DC4-3F92-45B6-8DFD-B2AA2CB4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BA009-169B-4FD6-9177-A20BA8D0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C93-FD6D-47EB-A9B5-19B66B7B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A031-8BB3-49AD-8ED8-606AD136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D8F79-6225-4118-A661-3AD824AC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CBD6-72FC-45E3-8C2C-DD7D8E74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C0BEE-EFEF-4651-AFEE-9CB14EE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6A874-2BE5-41F0-9E0F-3CE0E535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77BE9-57E3-4048-B902-9AC3CA8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CEE7-F6C5-4083-9E08-0C4E3C62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C996-FC78-4F0B-AC5B-5B7A111A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7F58-AD87-4A1B-A53B-80DE7456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43707-5693-4743-B6CE-63B88D38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893-4109-46F6-A473-16E5C6B7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33F72-B68E-4597-ACC4-AFEDDD18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FD2E3-CCD8-42D9-8E5D-5AD5AB85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0EB9-6081-40E1-BA8D-EB0D56FF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B631F-89F6-4390-A503-9D568C33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32895-21B3-4D62-A35D-C5398EE6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1C237-1B28-4F50-A3D0-41AB439B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30B0A-96B6-4E45-9EE2-E9AB6144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C6C10-F619-4ED4-92BF-FE0DECD0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B6F4A-23E9-4C59-96B1-57194FC9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54FE1-AB2B-486A-BACD-236EE3D6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044-5802-4744-89AF-D40B60CE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42605-8E97-4ACD-9A8E-0B413613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5AF48-33C7-4E60-82C6-E539CC06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CE02-F2A7-4226-91DE-E51AB5AF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EAB7-21FC-4575-96E8-6025445E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F1A3D-BAF7-4DBB-AA97-C55C32AB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88EB8-6346-4343-9C70-58E6BA26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71151-3046-4644-AB45-1B4F8623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0AE58-DDC8-4D85-B26A-6BEA10E5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385A2-C5BC-4459-ADF0-A4EF6555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8D8DF-25DB-4CED-8E65-2A349F3A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259-B26E-4273-B4DC-88611B84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D7410-B871-4D79-AAF3-C1C2EE29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2537F-6222-43FF-9A04-3FE75124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E2BC0-7975-40E9-8B3B-E9F8CBBB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913F9-3BA0-4C91-9E7B-23383D43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24263-6CA5-4CFE-80D7-E38B5E53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6351C-D181-433F-87BF-ADAFA389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9B16-25E3-4CCC-BAC9-5C6426A8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197AB-D6D5-4E32-BF69-39A78192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8088-4471-42DD-B85F-09D9CC48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7FE1E-C976-47D9-833A-2E646593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B3E-90C9-4BE8-AEDA-18C5AB19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5E220-1883-4AAF-9769-9284AD4C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76EFC-D3B1-4F75-B9D7-72C4C391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334F0-7FE8-4595-8B3B-A727ACAC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F6556-56CE-42B3-8963-B4D5E68F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6C75C-5D12-4B91-ADE8-ADB50E17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1E1-202E-4A85-9CCB-FB100805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4BCE-F2E3-4CB6-B8CC-D0961F481AE0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F232-714E-4712-8417-DA31FCD702CD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84A9-4766-4EAB-95D6-EE40E7F350F3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3DFF-47F4-463D-827C-1CC21763DA76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bdélní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élní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F636-862A-4822-BA71-CF40EC4BAD5D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071C-BA8B-46B5-AE58-1A336762A232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bdélní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Obdélní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Vývojový diagram: postup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ývojový diagram: postup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5836-2ECF-4F46-8B1C-7117C3271E74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s.wikipedia.org/wiki/Hygieia" TargetMode="External"/><Relationship Id="rId2" Type="http://schemas.openxmlformats.org/officeDocument/2006/relationships/hyperlink" Target="http://cs.wikipedia.org/wiki/Hadi" TargetMode="External"/><Relationship Id="rId3" Type="http://schemas.openxmlformats.org/officeDocument/2006/relationships/hyperlink" Target="http://cs.wikipedia.org/wiki/Zdrav&#237;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Epidemiologi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wikipedia.org/w/index.php?title=Osobn&#237;&amp;action=edit&amp;redlink=1" TargetMode="External"/><Relationship Id="rId2" Type="http://schemas.openxmlformats.org/officeDocument/2006/relationships/hyperlink" Target="http://cs.wikipedia.org/wiki/Soci&#225;ln&#237;" TargetMode="External"/><Relationship Id="rId3" Type="http://schemas.openxmlformats.org/officeDocument/2006/relationships/hyperlink" Target="http://cs.wikipedia.org/w/index.php?title=Vojensk&#225;&amp;action=edit&amp;redlink=1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&#381;ivot" TargetMode="External"/><Relationship Id="rId2" Type="http://schemas.openxmlformats.org/officeDocument/2006/relationships/hyperlink" Target="http://cs.wikipedia.org/wiki/Zdrav&#237;" TargetMode="External"/><Relationship Id="rId3" Type="http://schemas.openxmlformats.org/officeDocument/2006/relationships/hyperlink" Target="http://cs.wikipedia.org/wiki/&#381;ivot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Hygiena a epidemiologi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0" name="Picture 2" descr="http://aladar.drawetc.cz/bakterie.jpg"/>
          <p:cNvPicPr/>
          <p:nvPr/>
        </p:nvPicPr>
        <p:blipFill>
          <a:blip r:embed="rId1"/>
          <a:stretch/>
        </p:blipFill>
        <p:spPr>
          <a:xfrm>
            <a:off x="1619280" y="1268280"/>
            <a:ext cx="640872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1.Zdravý životní sty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Kouření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ezdravá výži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ízká pohybová aktivi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adměrná zátěž, st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Alkoho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Drog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evhodné sexuální chován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0" descr="http://i.iinfo.cz/images/603/koureni-1056.jpg"/>
          <p:cNvPicPr/>
          <p:nvPr/>
        </p:nvPicPr>
        <p:blipFill>
          <a:blip r:embed="rId1"/>
          <a:stretch/>
        </p:blipFill>
        <p:spPr>
          <a:xfrm>
            <a:off x="6732720" y="836640"/>
            <a:ext cx="1895400" cy="1422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http://www.sportvital.cz/sport/vyziva-ve-sportu/alkohol/uvodni-slovo/Contents/1/2_istock_000009245402xsmall.jpg"/>
          <p:cNvPicPr/>
          <p:nvPr/>
        </p:nvPicPr>
        <p:blipFill>
          <a:blip r:embed="rId2"/>
          <a:stretch/>
        </p:blipFill>
        <p:spPr>
          <a:xfrm>
            <a:off x="6443640" y="2997360"/>
            <a:ext cx="1986120" cy="1317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https://encrypted-tbn2.gstatic.com/images?q=tbn:ANd9GcSXQqAkkd91EzQal2-NzJoGluFh-eMNQu4h4jpFzlfc5rtBEakx9Q"/>
          <p:cNvPicPr/>
          <p:nvPr/>
        </p:nvPicPr>
        <p:blipFill>
          <a:blip r:embed="rId3"/>
          <a:stretch/>
        </p:blipFill>
        <p:spPr>
          <a:xfrm>
            <a:off x="0" y="5070600"/>
            <a:ext cx="1547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2.Životní prostředí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Ovzduší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Vo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Pů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Potravin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Chemizace prostředí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Hlu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Záření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4" descr="http://www.adam.cz/img/200702061108_Ekofor2.jpg"/>
          <p:cNvPicPr/>
          <p:nvPr/>
        </p:nvPicPr>
        <p:blipFill>
          <a:blip r:embed="rId1"/>
          <a:stretch/>
        </p:blipFill>
        <p:spPr>
          <a:xfrm>
            <a:off x="4427640" y="1341360"/>
            <a:ext cx="396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3.Zdravotní péč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Zaměřit se na včasné vyhledávání osob s počínajícími příznaky chorob a na rizikové skupiny obyvatel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Zdraví - Světová zdravotnická organizace (WHO) definuje zdraví jako „stav fyzické, psychické, sociální a estetické pohody„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Nemoc - </a:t>
            </a:r>
            <a:r>
              <a:rPr b="1" lang="cs-CZ" sz="2500" spc="-1" strike="noStrike">
                <a:solidFill>
                  <a:srgbClr val="000000"/>
                </a:solidFill>
                <a:latin typeface="Gill Sans MT"/>
              </a:rPr>
              <a:t>Nemoc</a:t>
            </a: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 neboli </a:t>
            </a:r>
            <a:r>
              <a:rPr b="1" lang="cs-CZ" sz="2500" spc="-1" strike="noStrike">
                <a:solidFill>
                  <a:srgbClr val="000000"/>
                </a:solidFill>
                <a:latin typeface="Gill Sans MT"/>
              </a:rPr>
              <a:t>choroba</a:t>
            </a: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 či </a:t>
            </a:r>
            <a:r>
              <a:rPr b="1" lang="cs-CZ" sz="2500" spc="-1" strike="noStrike">
                <a:solidFill>
                  <a:srgbClr val="000000"/>
                </a:solidFill>
                <a:latin typeface="Gill Sans MT"/>
              </a:rPr>
              <a:t>onemocnění</a:t>
            </a: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 je patologický stav těla nebo mysli, který je projevem změny funkcí buněk a v důsledku i morfologickým poškozením těchto buněk, tkání a orgánů.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Dispozice  - sklon k onemocnění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Imunita – je schopnost neonemocnět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4" descr="Domácí zdravotní péče vás ošetří doma"/>
          <p:cNvPicPr/>
          <p:nvPr/>
        </p:nvPicPr>
        <p:blipFill>
          <a:blip r:embed="rId1"/>
          <a:stretch/>
        </p:blipFill>
        <p:spPr>
          <a:xfrm>
            <a:off x="6732720" y="189000"/>
            <a:ext cx="18651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Odpady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pro zdravotníky – třídění odpadu 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a) komunáln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b) plas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c) biologick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d) ostr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e) bater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2" descr="sběrný dvůr"/>
          <p:cNvPicPr/>
          <p:nvPr/>
        </p:nvPicPr>
        <p:blipFill>
          <a:blip r:embed="rId1"/>
          <a:stretch/>
        </p:blipFill>
        <p:spPr>
          <a:xfrm>
            <a:off x="4140360" y="2565360"/>
            <a:ext cx="50036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Výživ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2" descr="C:\Users\Jana Milichovská\Desktop\pyramida_html_m6ed1d59d.png"/>
          <p:cNvPicPr/>
          <p:nvPr/>
        </p:nvPicPr>
        <p:blipFill>
          <a:blip r:embed="rId1"/>
          <a:stretch/>
        </p:blipFill>
        <p:spPr>
          <a:xfrm>
            <a:off x="3564000" y="692280"/>
            <a:ext cx="476244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Hygiena výživ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Zdravotně nezávadné potravin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Základní živiny – bílkoviny, tuky, cuk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Ochranné látky – vitamíny, minerální látk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2" descr="http://www.svet-potravin.cz/shared/clanky/3891/shutterstock_166661222.jpg"/>
          <p:cNvPicPr/>
          <p:nvPr/>
        </p:nvPicPr>
        <p:blipFill>
          <a:blip r:embed="rId1"/>
          <a:stretch/>
        </p:blipFill>
        <p:spPr>
          <a:xfrm>
            <a:off x="3995640" y="3357720"/>
            <a:ext cx="19749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Prevence vzniku a šíření nákaz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Gill Sans MT"/>
              </a:rPr>
              <a:t>Infekce a infekční onemocnění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ůvodci nákaz – mikrob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infekce (nákaza) – proniknou-li mikrobi do tě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Gill Sans MT"/>
              </a:rPr>
              <a:t>Stadia infekčního onemocnění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1. inkubační dob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2. stadium neurčitých příznaků, kdy nelze ještě stanovit d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3. klinická manifestace – charakteristické příznaky onemocnění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4. rekonvalesce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http://www.koh-i-noor.cz/stopbacteria/media/images/content/bakterie.jpg"/>
          <p:cNvPicPr/>
          <p:nvPr/>
        </p:nvPicPr>
        <p:blipFill>
          <a:blip r:embed="rId1"/>
          <a:stretch/>
        </p:blipFill>
        <p:spPr>
          <a:xfrm>
            <a:off x="5292720" y="2708280"/>
            <a:ext cx="38512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Zásady boje s infekčními nemocem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preventivní opatření – cílem je předejít vzniku onemocněn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represivní – cílem je potlačit výskyt, zabránit šíření infek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6" descr="http://img.mf.cz/958/111/1-04_image_0001.jpg"/>
          <p:cNvPicPr/>
          <p:nvPr/>
        </p:nvPicPr>
        <p:blipFill>
          <a:blip r:embed="rId1"/>
          <a:stretch/>
        </p:blipFill>
        <p:spPr>
          <a:xfrm>
            <a:off x="2556000" y="3645000"/>
            <a:ext cx="46353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Opatření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Izolace nemocné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Cílená léčb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Karanté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Gill Sans MT"/>
              </a:rPr>
              <a:t>3D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Dezinsekce - hubení obtížného hmyz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Deratizace – hubení hlodavc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Dekontaminace – soubor opatření, která směřují k hubení mikrob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2" descr="http://www.zachranny-kruh.cz/image.php?idx=284212&amp;di=4&amp;mw=400&amp;mh=400"/>
          <p:cNvPicPr/>
          <p:nvPr/>
        </p:nvPicPr>
        <p:blipFill>
          <a:blip r:embed="rId1"/>
          <a:stretch/>
        </p:blipFill>
        <p:spPr>
          <a:xfrm>
            <a:off x="5435640" y="765000"/>
            <a:ext cx="35226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Nejčastější infekční onemocnění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Střevní nákazy : „nemoci špinavých rukou“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Vzdušné nákaz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Kontaktní nákazy : svrab, tetanus, vztekli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Mykózy – plísně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Venerické choroby – pohlavně přenosné chorob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2" descr="http://benesov.rytmus.org/neobycejne-rodicovstvi/img/strevni1.png"/>
          <p:cNvPicPr/>
          <p:nvPr/>
        </p:nvPicPr>
        <p:blipFill>
          <a:blip r:embed="rId1"/>
          <a:stretch/>
        </p:blipFill>
        <p:spPr>
          <a:xfrm>
            <a:off x="5580000" y="2060640"/>
            <a:ext cx="2867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Hygien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907920"/>
            <a:ext cx="3657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Hygiena je pojmenována podle bohyně zdraví, kterou byla podle řecké mytologie </a:t>
            </a:r>
            <a:r>
              <a:rPr b="0" lang="cs-CZ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ygieia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 Je znázorňována v podobě sličné ženy. Jejím symbolem je </a:t>
            </a:r>
            <a:r>
              <a:rPr b="0" lang="cs-CZ" sz="2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ad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 pijící krev z misky, kterou bohyně drží v ruc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ill Sans MT"/>
              </a:rPr>
              <a:t>Hygiena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 je dodržování zásad pro uchování </a:t>
            </a:r>
            <a:r>
              <a:rPr b="0" lang="cs-CZ" sz="20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zdraví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 V původní terminologii se jednalo o obor zabývající se všemi faktory ovlivňujícími tělesné zdraví i duševní pohodu člověka; současné pojetí může toliko synonymem pro udržování čisto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4" name="Picture 2" descr="Hope Hygieia / Roman"/>
          <p:cNvPicPr/>
          <p:nvPr/>
        </p:nvPicPr>
        <p:blipFill>
          <a:blip r:embed="rId4"/>
          <a:stretch/>
        </p:blipFill>
        <p:spPr>
          <a:xfrm>
            <a:off x="5435640" y="1916280"/>
            <a:ext cx="30049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Tak snad se s nemocemi budeme umět „poprat“ </a:t>
            </a:r>
            <a:r>
              <a:rPr b="0" lang="cs-CZ" sz="39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2" descr="S bacily a viry pomohou školní lékaři"/>
          <p:cNvPicPr/>
          <p:nvPr/>
        </p:nvPicPr>
        <p:blipFill>
          <a:blip r:embed="rId1"/>
          <a:stretch/>
        </p:blipFill>
        <p:spPr>
          <a:xfrm>
            <a:off x="2050920" y="1413000"/>
            <a:ext cx="6050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Z hlediska osobního se hygiena zabývá kvalitou vody a ostatních nápojů, potravin a stravování, oblečení, práce a tělesná námaha vůbec, spánek, čistota těla, užívání tabáku, narkotik atd. a duševní zdraví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Z hlediska veřejného se okruh zájmů oboru týká klimatických podmínek, půdy, charakteru stavebních materiálů a uspořádání obydlí, topení, větrání, odstraňování odpadů, lékařských znalostí o výskytu a prevenci chorob až po pohřbívání zemřelých (v tom se dotýká dalšího oboru, kterým je </a:t>
            </a:r>
            <a:r>
              <a:rPr b="0" lang="cs-CZ" sz="27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epidemiologie</a:t>
            </a: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2" descr="https://encrypted-tbn3.gstatic.com/images?q=tbn:ANd9GcTc2ucCXg5vT3e5sGWKHLBGMPyDc2ctCqKy0GGnPuAXUmQOzPkukg"/>
          <p:cNvPicPr/>
          <p:nvPr/>
        </p:nvPicPr>
        <p:blipFill>
          <a:blip r:embed="rId2"/>
          <a:stretch/>
        </p:blipFill>
        <p:spPr>
          <a:xfrm>
            <a:off x="6491160" y="5300640"/>
            <a:ext cx="26528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Gill Sans MT"/>
              </a:rPr>
              <a:t>Hygiena obecná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- Zkoumá zákonitosti vztahů mezi člověkem a prostředí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ill Sans MT"/>
              </a:rPr>
              <a:t>Hygiena komunikální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- Sleduje životní podmínky a jejich vliv na zdraví člověk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ill Sans MT"/>
              </a:rPr>
              <a:t>Hygiena práce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- Zaměřuje se na vliv pracovních podmínek na zdraví člověk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ill Sans MT"/>
              </a:rPr>
              <a:t>Hygienická výživa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- Zkoumá působení výživy na zdraví, racionalizaci výživy a zdravotní nezávadnost potrav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Hygiena má řadu dalších disciplín (hygiena </a:t>
            </a:r>
            <a:r>
              <a:rPr b="0" lang="cs-CZ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osobní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lang="cs-CZ" sz="2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lang="cs-CZ" sz="20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vojenská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). Hygiena duševní (mentální), systém pravidel a návodů k udržení, prohloubení nebo obnovení duševního zdraví a rovnováh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Hygienická stanice</a:t>
            </a:r>
            <a:br>
              <a:rPr sz="3900"/>
            </a:b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Krajské hygienické stanice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Obor zabývající se vlivem </a:t>
            </a:r>
            <a:r>
              <a:rPr b="0" lang="cs-CZ" sz="3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životních</a:t>
            </a: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 a pracovních podmínek na </a:t>
            </a:r>
            <a:r>
              <a:rPr b="0" lang="cs-CZ" sz="3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zdraví</a:t>
            </a: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 člověka a lidských společenství, zkoumá účinky jednotlivých složek životního i pracovního prostředí. Vypracovává vědecky podložené zásady pro </a:t>
            </a:r>
            <a:r>
              <a:rPr b="0" lang="cs-CZ" sz="30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život</a:t>
            </a: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 a práci člověka, které omezují rizika poškození zdraví faktory zevního prostředí. Zabraňuje šíření nemocí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http://www.praktikfm.cz/img/logo_khs.gif"/>
          <p:cNvPicPr/>
          <p:nvPr/>
        </p:nvPicPr>
        <p:blipFill>
          <a:blip r:embed="rId4"/>
          <a:stretch/>
        </p:blipFill>
        <p:spPr>
          <a:xfrm>
            <a:off x="6372360" y="189000"/>
            <a:ext cx="2333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Epidemiolog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981000"/>
            <a:ext cx="74995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Epidemiologie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 je lékařské odvětví zabývající se studiem faktorů ovlivňujících zdraví a nemocnost obyvatelstva a slouží také jako poklad k opodstatnění lékařských zásahů, provedených v zájmu veřejného zdravotnictví a preventivního lékařstv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Picture 2" descr="https://encrypted-tbn3.gstatic.com/images?q=tbn:ANd9GcT_LyWcPHo3p3qvY8TJZ-CzK5Z6PYzuUmAaQDTfBdQOV6InNYqc"/>
          <p:cNvPicPr/>
          <p:nvPr/>
        </p:nvPicPr>
        <p:blipFill>
          <a:blip r:embed="rId1"/>
          <a:stretch/>
        </p:blipFill>
        <p:spPr>
          <a:xfrm>
            <a:off x="3924360" y="4437000"/>
            <a:ext cx="2238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Epidemiologie se dělí se na </a:t>
            </a:r>
            <a:r>
              <a:rPr b="0" i="1" lang="cs-CZ" sz="3000" spc="-1" strike="noStrike">
                <a:solidFill>
                  <a:srgbClr val="000000"/>
                </a:solidFill>
                <a:latin typeface="Gill Sans MT"/>
              </a:rPr>
              <a:t>epidemiologii obecnou</a:t>
            </a: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, zabývající se metodologií práce a obecnými epidemiologickými zákonitostmi, a </a:t>
            </a:r>
            <a:r>
              <a:rPr b="0" i="1" lang="cs-CZ" sz="3000" spc="-1" strike="noStrike">
                <a:solidFill>
                  <a:srgbClr val="000000"/>
                </a:solidFill>
                <a:latin typeface="Gill Sans MT"/>
              </a:rPr>
              <a:t>speciální epidemiologii</a:t>
            </a: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 konkrétních nemocí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Dále se ještě rozlišuje </a:t>
            </a:r>
            <a:r>
              <a:rPr b="0" i="1" lang="cs-CZ" sz="3000" spc="-1" strike="noStrike">
                <a:solidFill>
                  <a:srgbClr val="000000"/>
                </a:solidFill>
                <a:latin typeface="Gill Sans MT"/>
              </a:rPr>
              <a:t>klinická epidemiologie</a:t>
            </a: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, která se zabývá konkrétní klinickou aplikací poznatků obou předchozích a posuzováním výstupůklinických testů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Picture 5" descr="https://encrypted-tbn3.gstatic.com/images?q=tbn:ANd9GcQToak9O-P4kXLZA5bMq0QC9pCaFl6k1r_1vbIVPjjcWGVzNScgPg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Osobní hygie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Mytí a dezinfekce ruko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Hygiena dutiny ústní – péče o chru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Ranní a večerní hygie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Výměna oblečen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2" descr="https://encrypted-tbn1.gstatic.com/images?q=tbn:ANd9GcR-ZITHrNK1Gf8CFHIwSUQwPSfyHNSesADDi5TF13jUk2zgMezVoA"/>
          <p:cNvPicPr/>
          <p:nvPr/>
        </p:nvPicPr>
        <p:blipFill>
          <a:blip r:embed="rId1"/>
          <a:stretch/>
        </p:blipFill>
        <p:spPr>
          <a:xfrm>
            <a:off x="3203640" y="3716280"/>
            <a:ext cx="3816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Denní reži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Režim dne má odpovídat věku a zdravotnímu stav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24 hodin rozdělit na činnost a odpočine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Duševní i tělesná poho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Optimální výkonnost a zdraví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2" descr="http://www.andilkove.cz/1974-4852-thickbox/razitka-hodiny-denni-rezim.jpg"/>
          <p:cNvPicPr/>
          <p:nvPr/>
        </p:nvPicPr>
        <p:blipFill>
          <a:blip r:embed="rId1"/>
          <a:stretch/>
        </p:blipFill>
        <p:spPr>
          <a:xfrm>
            <a:off x="4932360" y="1125360"/>
            <a:ext cx="421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9T05:04:35Z</dcterms:created>
  <dc:creator>Jana Milichovská</dc:creator>
  <dc:description/>
  <dc:language>en-US</dc:language>
  <cp:lastModifiedBy>Jana Milichovská</cp:lastModifiedBy>
  <dcterms:modified xsi:type="dcterms:W3CDTF">2014-07-19T06:36:03Z</dcterms:modified>
  <cp:revision>3</cp:revision>
  <dc:subject/>
  <dc:title>Hygiena a epidemiologie</dc:title>
</cp:coreProperties>
</file>